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3A14-A398-4EB1-B2B2-F15A2F4C7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229D-3B93-4251-9B08-31A4FAABD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34AE-E54C-4F6C-9A54-C59168BFA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1A71-FA18-4816-99BA-1BDE83E48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A45F-290F-4A45-8FC4-0443AE4B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7DCF-CAAA-4330-BB33-F665908A0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2C7B-0B7C-4E0B-908B-FC008D413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A65C-DD07-487E-9777-C01246427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6E1D-EEE1-41C9-8512-63A46F7D1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764A-7DDF-4199-A16E-56C86A34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8425-2FBF-4A72-BBD1-3923719B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3BBD-54FA-4A2A-9652-688202AC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B18E0-C2FA-4113-A38C-EDFC8E3264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ycle of Samsa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y : Adam Gr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Samsar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ouls pass through Samsa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 simple it’s dieing and reincarn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hinduism" descr=""/>
          <p:cNvPicPr/>
          <p:nvPr/>
        </p:nvPicPr>
        <p:blipFill>
          <a:blip r:embed="rId2"/>
          <a:stretch/>
        </p:blipFill>
        <p:spPr>
          <a:xfrm>
            <a:off x="5105520" y="2127240"/>
            <a:ext cx="342900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Sou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indus believe all have sou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indus believe souls are eter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he soul lives many lifeti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angel4c" descr=""/>
          <p:cNvPicPr/>
          <p:nvPr/>
        </p:nvPicPr>
        <p:blipFill>
          <a:blip r:embed="rId2"/>
          <a:stretch/>
        </p:blipFill>
        <p:spPr>
          <a:xfrm>
            <a:off x="4648320" y="2708280"/>
            <a:ext cx="3809880" cy="26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erpetual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ycles of Creation and De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amsara is the soul’s cy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symbol-kalachakra" descr=""/>
          <p:cNvPicPr/>
          <p:nvPr/>
        </p:nvPicPr>
        <p:blipFill>
          <a:blip r:embed="rId2"/>
          <a:stretch/>
        </p:blipFill>
        <p:spPr>
          <a:xfrm>
            <a:off x="464832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to Stop Samsa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uls are a part of g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uls must reunite with g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hen they reunite Samsara sto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9T19:27:30Z</dcterms:created>
  <dc:creator>AdGREEN</dc:creator>
  <dc:description/>
  <dc:language>en-US</dc:language>
  <cp:lastModifiedBy> </cp:lastModifiedBy>
  <dcterms:modified xsi:type="dcterms:W3CDTF">2009-11-20T20:24:18Z</dcterms:modified>
  <cp:revision>3</cp:revision>
  <dc:subject/>
  <dc:title>Cycle of Samsara</dc:title>
</cp:coreProperties>
</file>