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5E086-4285-480E-985C-23841A6B8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BA4AB-A804-4A27-9451-74F9246F5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1D65B-D37F-48D9-8D6D-FE4D06CE5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54493-3C1E-4D42-A1B8-781A154FE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D986A-9F9F-4A75-8E7A-0A214FD9A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DA15C-0DCC-40CA-A119-C5868FD18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E30AE-702A-4AB9-A826-24400B2B1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0CA7A-8E4E-46C7-B79D-86CEA36B5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AFCFD-EB45-4F39-837A-22BE7F51B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00A51-C4A7-4B6C-8FAE-253A2C82A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227F9-B64F-4748-9996-448263065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B00B4-E43C-40EF-85EA-2AA587994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C215F-0BD4-4700-B33D-F7B49FF29E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ycle of Samsa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y : Adam Gre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hat is Samsar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Souls pass through Samsa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In simple it’s dieing and reincarn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hinduism" descr=""/>
          <p:cNvPicPr/>
          <p:nvPr/>
        </p:nvPicPr>
        <p:blipFill>
          <a:blip r:embed="rId2"/>
          <a:stretch/>
        </p:blipFill>
        <p:spPr>
          <a:xfrm>
            <a:off x="5105520" y="2127240"/>
            <a:ext cx="3429000" cy="27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e Sou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Hindus believe all have sou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Hindus believe souls are etern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The soul lives many lifetim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angel4c" descr=""/>
          <p:cNvPicPr/>
          <p:nvPr/>
        </p:nvPicPr>
        <p:blipFill>
          <a:blip r:embed="rId2"/>
          <a:stretch/>
        </p:blipFill>
        <p:spPr>
          <a:xfrm>
            <a:off x="4648320" y="2708280"/>
            <a:ext cx="3809880" cy="26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erpetual Ti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Cycles of Creation and Destru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Samsara is the soul’s cyc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symbol-kalachakra" descr=""/>
          <p:cNvPicPr/>
          <p:nvPr/>
        </p:nvPicPr>
        <p:blipFill>
          <a:blip r:embed="rId2"/>
          <a:stretch/>
        </p:blipFill>
        <p:spPr>
          <a:xfrm>
            <a:off x="4648320" y="2133720"/>
            <a:ext cx="38098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ow to Stop Samsa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ouls are a part of go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ouls must reunite with go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hen they reunite Samsara stop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9T19:27:30Z</dcterms:created>
  <dc:creator>AdGREEN</dc:creator>
  <dc:description/>
  <dc:language>en-US</dc:language>
  <cp:lastModifiedBy> </cp:lastModifiedBy>
  <dcterms:modified xsi:type="dcterms:W3CDTF">2009-11-20T20:24:18Z</dcterms:modified>
  <cp:revision>3</cp:revision>
  <dc:subject/>
  <dc:title>Cycle of Samsara</dc:title>
</cp:coreProperties>
</file>