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2557-22DE-4D99-9DCA-1336011D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A00-2D8C-46D9-B1CC-4AE5619B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85B-5287-475F-B4C0-71AC0B6C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5276-7E70-4D14-8EBA-715DBFC0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32C9-0D65-47AC-B4B6-95286534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DDEC-AF81-45B5-8FAA-3A4AA8A5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A346-E76B-4B36-9232-666DCCB1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1B4-7CB7-4DBD-8FCB-544D31FE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050-1A7B-4154-8C3F-9A7527AD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5D45-C322-46D9-B1CC-7BE0500A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765-3B6B-492C-A2D8-F1F8AD9F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353-869A-4C4D-B0F5-A709FE53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34AA-7AF8-485A-A70E-FDFB89904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ycle of Samsa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 : Adam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Samsa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uls pass through Sams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simple it’s dieing and reincar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hinduism" descr=""/>
          <p:cNvPicPr/>
          <p:nvPr/>
        </p:nvPicPr>
        <p:blipFill>
          <a:blip r:embed="rId2"/>
          <a:stretch/>
        </p:blipFill>
        <p:spPr>
          <a:xfrm>
            <a:off x="5105520" y="2127240"/>
            <a:ext cx="34290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So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ndus believe all have sou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ndus believe souls are eter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soul lives many life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ngel4c" descr=""/>
          <p:cNvPicPr/>
          <p:nvPr/>
        </p:nvPicPr>
        <p:blipFill>
          <a:blip r:embed="rId2"/>
          <a:stretch/>
        </p:blipFill>
        <p:spPr>
          <a:xfrm>
            <a:off x="4648320" y="2708280"/>
            <a:ext cx="38098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petual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ycles of Creation and 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amsara is the soul’s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ymbol-kalachakra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Stop Samsa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uls are a part of g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uls must reunite with g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en they reunite Samsara st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9:27:30Z</dcterms:created>
  <dc:creator>AdGREEN</dc:creator>
  <dc:description/>
  <dc:language>en-US</dc:language>
  <cp:lastModifiedBy> </cp:lastModifiedBy>
  <dcterms:modified xsi:type="dcterms:W3CDTF">2009-11-20T20:24:18Z</dcterms:modified>
  <cp:revision>3</cp:revision>
  <dc:subject/>
  <dc:title>Cycle of Samsara</dc:title>
</cp:coreProperties>
</file>