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FE0-F3E5-49DA-A75C-D0BD8307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7F0-318A-400D-B661-A945F5C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D82-26D3-4C11-A8BE-B5864276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829-AD7C-4CEF-B4F0-6CFC0E99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A2F-BDF8-4270-B7CE-B2774115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97B-2535-43AC-AF18-C4190134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913-132F-4B34-A96D-381BD1B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12D-A931-437E-A073-2AE1F145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184-D63A-4D35-A756-54EA300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395-EFA8-47D0-9536-C42CF90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5B3-FF69-415C-843C-B9920D8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E5F-D854-4F41-8B00-07682F0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E68-0892-4A1F-BFD3-1AADE829D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e of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: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Sams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ls pass through Sams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simple it’s dieing and reincar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nduism" descr=""/>
          <p:cNvPicPr/>
          <p:nvPr/>
        </p:nvPicPr>
        <p:blipFill>
          <a:blip r:embed="rId2"/>
          <a:stretch/>
        </p:blipFill>
        <p:spPr>
          <a:xfrm>
            <a:off x="5105520" y="212724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o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all have sou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souls are ete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oul lives many life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gel4c" descr=""/>
          <p:cNvPicPr/>
          <p:nvPr/>
        </p:nvPicPr>
        <p:blipFill>
          <a:blip r:embed="rId2"/>
          <a:stretch/>
        </p:blipFill>
        <p:spPr>
          <a:xfrm>
            <a:off x="4648320" y="2708280"/>
            <a:ext cx="3809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petual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ycles of Creation an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sara is the soul’s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ymbol-kalachakra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top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are a part of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must reunite with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n they reunite Samsara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7:30Z</dcterms:created>
  <dc:creator>AdGREEN</dc:creator>
  <dc:description/>
  <dc:language>en-US</dc:language>
  <cp:lastModifiedBy> </cp:lastModifiedBy>
  <dcterms:modified xsi:type="dcterms:W3CDTF">2009-11-20T20:24:18Z</dcterms:modified>
  <cp:revision>3</cp:revision>
  <dc:subject/>
  <dc:title>Cycle of Samsara</dc:title>
</cp:coreProperties>
</file>