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E3A2-6374-4317-8BD2-B1FDADBC2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CFD0-4FF7-4065-9A2D-372FE36B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A631-F931-4FD6-8A60-A1F25624E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11C9-6CBF-48A1-9BE9-58F61FB83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1F1D-6A8D-4FAE-9124-FEE471DB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C9CD-5D30-47EE-8571-BEE10A20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3D7F-9F12-4461-B739-F8110D86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6A2B-A0EB-455E-9FAF-3009E961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45D3-9E12-41EB-BCB1-19FA14A4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3C41-3BF2-4B93-BD31-188C045B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ED91-4372-421D-8AF5-077BBE48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B58E-5F9A-4FF6-BB35-DBC87821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64BD-E415-437C-AEF6-B7A9B5D14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ycle of Samsa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y : Adam Gr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Samsar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ouls pass through Sams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 simple it’s dieing and reincarn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hinduism" descr=""/>
          <p:cNvPicPr/>
          <p:nvPr/>
        </p:nvPicPr>
        <p:blipFill>
          <a:blip r:embed="rId2"/>
          <a:stretch/>
        </p:blipFill>
        <p:spPr>
          <a:xfrm>
            <a:off x="5105520" y="2127240"/>
            <a:ext cx="342900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Sou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indus believe all have sou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indus believe souls are eter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 soul lives many lifeti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angel4c" descr=""/>
          <p:cNvPicPr/>
          <p:nvPr/>
        </p:nvPicPr>
        <p:blipFill>
          <a:blip r:embed="rId2"/>
          <a:stretch/>
        </p:blipFill>
        <p:spPr>
          <a:xfrm>
            <a:off x="4648320" y="2708280"/>
            <a:ext cx="380988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erpetual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ycles of Creation and De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amsara is the soul’s cy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symbol-kalachakra" descr=""/>
          <p:cNvPicPr/>
          <p:nvPr/>
        </p:nvPicPr>
        <p:blipFill>
          <a:blip r:embed="rId2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o Stop Samsa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uls are a part of g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uls must reunite with g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hen they reunite Samsara sto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19:27:30Z</dcterms:created>
  <dc:creator>AdGREEN</dc:creator>
  <dc:description/>
  <dc:language>en-US</dc:language>
  <cp:lastModifiedBy> </cp:lastModifiedBy>
  <dcterms:modified xsi:type="dcterms:W3CDTF">2009-11-20T20:24:18Z</dcterms:modified>
  <cp:revision>3</cp:revision>
  <dc:subject/>
  <dc:title>Cycle of Samsara</dc:title>
</cp:coreProperties>
</file>