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B6B0-E072-496A-8D6D-F8CEDD8E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C67F-10D0-4177-AAEF-EDBC47F4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82CB-D943-4EC1-AD22-5ECACC590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6A26-AFAD-42AE-AF96-22AF49416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7DDF-0E99-4090-A29C-720EA7B3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A98B-F4C5-4CD7-A24B-6650C0B5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71CA-2BEE-492B-A04E-B1F6CC57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9DF8-A9A2-44CB-843E-33E92331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3F5F-92C4-4A10-B315-7B32B691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E2EF-5C81-491F-AF28-C4A62994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D320-194A-4FCC-B661-05D29896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1F87-0553-46CC-BFFF-DEFBE714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5806-54C9-4351-9EA8-FE651CBC1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ycle of Samsa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y : Adam G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Samsar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uls pass through Sams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 simple it’s dieing and reincarn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hinduism" descr=""/>
          <p:cNvPicPr/>
          <p:nvPr/>
        </p:nvPicPr>
        <p:blipFill>
          <a:blip r:embed="rId2"/>
          <a:stretch/>
        </p:blipFill>
        <p:spPr>
          <a:xfrm>
            <a:off x="5105520" y="2127240"/>
            <a:ext cx="342900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Sou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indus believe all have sou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indus believe souls are eter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 soul lives many lifeti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angel4c" descr=""/>
          <p:cNvPicPr/>
          <p:nvPr/>
        </p:nvPicPr>
        <p:blipFill>
          <a:blip r:embed="rId2"/>
          <a:stretch/>
        </p:blipFill>
        <p:spPr>
          <a:xfrm>
            <a:off x="4648320" y="2708280"/>
            <a:ext cx="380988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rpetual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ycles of Creation and 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amsara is the soul’s cy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ymbol-kalachakra" descr=""/>
          <p:cNvPicPr/>
          <p:nvPr/>
        </p:nvPicPr>
        <p:blipFill>
          <a:blip r:embed="rId2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o Stop Samsa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uls are a part of g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uls must reunite with g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hen they reunite Samsara sto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9:27:30Z</dcterms:created>
  <dc:creator>AdGREEN</dc:creator>
  <dc:description/>
  <dc:language>en-US</dc:language>
  <cp:lastModifiedBy> </cp:lastModifiedBy>
  <dcterms:modified xsi:type="dcterms:W3CDTF">2009-11-20T20:24:18Z</dcterms:modified>
  <cp:revision>3</cp:revision>
  <dc:subject/>
  <dc:title>Cycle of Samsara</dc:title>
</cp:coreProperties>
</file>