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C91-29CB-45E1-8C7C-C7EDABC5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F3E-8635-44D8-A3D5-59086662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EF4-C7BF-4ABC-A6E7-AE60E82E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948-AE06-45E5-84EE-4BE7B2F5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3BF-2C6E-449A-A377-1CFEF173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11E-97FA-40B8-AC2B-5DC61537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D06-5098-4C52-848A-CA618EDF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4B6-FA1C-4595-BDA4-26493B41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412-A5AA-4F53-A576-54047AEB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D53-0516-40AC-B0AA-67E4EA76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87F-BF1D-4745-9EFB-12B1BC7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3AA-61AD-4E88-8544-863A2B8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C317-2A04-4E73-A03B-256678BF6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are in the neritic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form from dead coral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build up over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ral_animal" descr=""/>
          <p:cNvPicPr/>
          <p:nvPr/>
        </p:nvPicPr>
        <p:blipFill>
          <a:blip r:embed="rId2"/>
          <a:stretch/>
        </p:blipFill>
        <p:spPr>
          <a:xfrm>
            <a:off x="4648320" y="2662200"/>
            <a:ext cx="3809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h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mall animals with bright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ve a tail to help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 plankton and small  crusta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eahorse" descr=""/>
          <p:cNvPicPr/>
          <p:nvPr/>
        </p:nvPicPr>
        <p:blipFill>
          <a:blip r:embed="rId2"/>
          <a:stretch/>
        </p:blipFill>
        <p:spPr>
          <a:xfrm>
            <a:off x="4648320" y="2724120"/>
            <a:ext cx="3809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sea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male carries the bab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often die of exhau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have one fli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eahorse-1" descr=""/>
          <p:cNvPicPr/>
          <p:nvPr/>
        </p:nvPicPr>
        <p:blipFill>
          <a:blip r:embed="rId2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Organism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ightly colored fish like clownfis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ve animals like the octop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dators lurk like sh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hark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clownfish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24382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beautiful  tourists at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n’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protection from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_coral_reefs" descr=""/>
          <p:cNvPicPr/>
          <p:nvPr/>
        </p:nvPicPr>
        <p:blipFill>
          <a:blip r:embed="rId2"/>
          <a:stretch/>
        </p:blipFill>
        <p:spPr>
          <a:xfrm>
            <a:off x="4648320" y="2755800"/>
            <a:ext cx="3809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4:35:27Z</dcterms:created>
  <dc:creator>sdl</dc:creator>
  <dc:description/>
  <dc:language>en-US</dc:language>
  <cp:lastModifiedBy>sdl</cp:lastModifiedBy>
  <dcterms:modified xsi:type="dcterms:W3CDTF">2010-04-29T14:36:07Z</dcterms:modified>
  <cp:revision>3</cp:revision>
  <dc:subject/>
  <dc:title>Coral Reefs</dc:title>
</cp:coreProperties>
</file>