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5E4E-D311-404E-B661-B390F1C8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78CF-58E2-4436-84D0-D1E6D563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94C8-5DA7-47D7-A349-D42C66D1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84D8-87BF-45DD-844F-4DB66086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54E1-DB9C-4CA7-B405-A5241B1E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A258-23A8-490D-97D5-A083B5BD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510C-CB8C-4C36-8F51-00E64477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9E44-EFF4-438E-8EA5-3A74FDCC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92F4-AA5B-4F4B-ADB8-E0A4A04D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797C-4534-4FCF-9966-1F0C493A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168B-C908-45CC-9657-9BDD2952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8971-B19D-4086-8EEB-FF6F154F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A59F-5D08-4E04-8D3F-3CAD5056E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ral Re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y Adam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ral Re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are in the neritic z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form from dead coral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build up over long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ral_animal" descr=""/>
          <p:cNvPicPr/>
          <p:nvPr/>
        </p:nvPicPr>
        <p:blipFill>
          <a:blip r:embed="rId2"/>
          <a:stretch/>
        </p:blipFill>
        <p:spPr>
          <a:xfrm>
            <a:off x="4648320" y="2662200"/>
            <a:ext cx="380988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aho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mall animals with bright col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ave a tail to help 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at plankton and small  crustac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eahorse" descr=""/>
          <p:cNvPicPr/>
          <p:nvPr/>
        </p:nvPicPr>
        <p:blipFill>
          <a:blip r:embed="rId2"/>
          <a:stretch/>
        </p:blipFill>
        <p:spPr>
          <a:xfrm>
            <a:off x="4648320" y="2724120"/>
            <a:ext cx="38098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s on seaho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male carries the bab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y often die of exhau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y have one flip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eahorse-1" descr=""/>
          <p:cNvPicPr/>
          <p:nvPr/>
        </p:nvPicPr>
        <p:blipFill>
          <a:blip r:embed="rId2"/>
          <a:stretch/>
        </p:blipFill>
        <p:spPr>
          <a:xfrm>
            <a:off x="4648320" y="276876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 Organism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rightly colored fish like clownfis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ve animals like the octop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dators lurk like sha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hark" descr=""/>
          <p:cNvPicPr/>
          <p:nvPr/>
        </p:nvPicPr>
        <p:blipFill>
          <a:blip r:embed="rId2"/>
          <a:stretch/>
        </p:blipFill>
        <p:spPr>
          <a:xfrm>
            <a:off x="5562720" y="4038480"/>
            <a:ext cx="2514600" cy="1887480"/>
          </a:xfrm>
          <a:prstGeom prst="rect">
            <a:avLst/>
          </a:prstGeom>
          <a:ln w="0">
            <a:noFill/>
          </a:ln>
        </p:spPr>
      </p:pic>
      <p:pic>
        <p:nvPicPr>
          <p:cNvPr id="55" name="clownfish" descr=""/>
          <p:cNvPicPr/>
          <p:nvPr/>
        </p:nvPicPr>
        <p:blipFill>
          <a:blip r:embed="rId3"/>
          <a:stretch/>
        </p:blipFill>
        <p:spPr>
          <a:xfrm>
            <a:off x="5562720" y="1676520"/>
            <a:ext cx="243828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s on Re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create beautiful  tourists attr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on’t t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create protection from w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ap_coral_reefs" descr=""/>
          <p:cNvPicPr/>
          <p:nvPr/>
        </p:nvPicPr>
        <p:blipFill>
          <a:blip r:embed="rId2"/>
          <a:stretch/>
        </p:blipFill>
        <p:spPr>
          <a:xfrm>
            <a:off x="4648320" y="2755800"/>
            <a:ext cx="38098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4:35:27Z</dcterms:created>
  <dc:creator>sdl</dc:creator>
  <dc:description/>
  <dc:language>en-US</dc:language>
  <cp:lastModifiedBy>sdl</cp:lastModifiedBy>
  <dcterms:modified xsi:type="dcterms:W3CDTF">2010-04-29T14:36:07Z</dcterms:modified>
  <cp:revision>3</cp:revision>
  <dc:subject/>
  <dc:title>Coral Reefs</dc:title>
</cp:coreProperties>
</file>