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8946-7137-481A-B490-0017EF64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0CF2-5F87-44EA-A447-5F936577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F38D-F766-443C-9AD8-0BAA4544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672B-9337-4057-8E58-FB72AA8B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E795-9571-43BA-958E-A0DB0AEC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83C8-C1DF-4885-8360-777109AE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2CEA-19F2-463A-9BE6-611902F3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F249-5E5E-41D5-8CA2-D34FD81F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FDAA-9EC2-4E18-8848-FDD4929E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D4EF-91BB-49EB-9E68-8986F01D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66D9-EFD2-4585-AE45-1749C769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2653-9233-48F5-AA41-58491DCA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3EF6-D607-4D82-B367-300147A44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ral Ree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y Adam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ral Ree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efs are in the neritic z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efs form from dead coral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efs build up over long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ral_animal" descr=""/>
          <p:cNvPicPr/>
          <p:nvPr/>
        </p:nvPicPr>
        <p:blipFill>
          <a:blip r:embed="rId2"/>
          <a:stretch/>
        </p:blipFill>
        <p:spPr>
          <a:xfrm>
            <a:off x="4648320" y="2662200"/>
            <a:ext cx="380988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aho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mall animals with bright col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ave a tail to help 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at plankton and small  crustac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eahorse" descr=""/>
          <p:cNvPicPr/>
          <p:nvPr/>
        </p:nvPicPr>
        <p:blipFill>
          <a:blip r:embed="rId2"/>
          <a:stretch/>
        </p:blipFill>
        <p:spPr>
          <a:xfrm>
            <a:off x="4648320" y="2724120"/>
            <a:ext cx="38098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s on seaho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male carries the bab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y often die of exhau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y have one flip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eahorse-1" descr=""/>
          <p:cNvPicPr/>
          <p:nvPr/>
        </p:nvPicPr>
        <p:blipFill>
          <a:blip r:embed="rId2"/>
          <a:stretch/>
        </p:blipFill>
        <p:spPr>
          <a:xfrm>
            <a:off x="4648320" y="2768760"/>
            <a:ext cx="3809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 Organism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rightly colored fish like clownfis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ve animals like the octop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dators lurk like sha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Shark" descr=""/>
          <p:cNvPicPr/>
          <p:nvPr/>
        </p:nvPicPr>
        <p:blipFill>
          <a:blip r:embed="rId2"/>
          <a:stretch/>
        </p:blipFill>
        <p:spPr>
          <a:xfrm>
            <a:off x="5562720" y="4038480"/>
            <a:ext cx="2514600" cy="1887480"/>
          </a:xfrm>
          <a:prstGeom prst="rect">
            <a:avLst/>
          </a:prstGeom>
          <a:ln w="0">
            <a:noFill/>
          </a:ln>
        </p:spPr>
      </p:pic>
      <p:pic>
        <p:nvPicPr>
          <p:cNvPr id="55" name="clownfish" descr=""/>
          <p:cNvPicPr/>
          <p:nvPr/>
        </p:nvPicPr>
        <p:blipFill>
          <a:blip r:embed="rId3"/>
          <a:stretch/>
        </p:blipFill>
        <p:spPr>
          <a:xfrm>
            <a:off x="5562720" y="1676520"/>
            <a:ext cx="243828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s on Ree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efs create beautiful  tourists attr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on’t tou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efs create protection from w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map_coral_reefs" descr=""/>
          <p:cNvPicPr/>
          <p:nvPr/>
        </p:nvPicPr>
        <p:blipFill>
          <a:blip r:embed="rId2"/>
          <a:stretch/>
        </p:blipFill>
        <p:spPr>
          <a:xfrm>
            <a:off x="4648320" y="2755800"/>
            <a:ext cx="380988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4:35:27Z</dcterms:created>
  <dc:creator>sdl</dc:creator>
  <dc:description/>
  <dc:language>en-US</dc:language>
  <cp:lastModifiedBy>sdl</cp:lastModifiedBy>
  <dcterms:modified xsi:type="dcterms:W3CDTF">2010-04-29T14:36:07Z</dcterms:modified>
  <cp:revision>3</cp:revision>
  <dc:subject/>
  <dc:title>Coral Reefs</dc:title>
</cp:coreProperties>
</file>