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141-34FE-4999-99E2-851881C5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D09-B6ED-4850-850F-CDDCB73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07B-AB39-4846-97D0-0D428102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865-41B6-4B75-BD3B-305D6153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71D-4132-4B3B-8A7A-7A0E1D9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BCF-FC7B-425B-89F4-820560B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6D8-68EF-41B8-A103-0B1830F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55C-A9FE-4B97-B31A-AC46F536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9B8-0FF1-432F-B099-49697C5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83B-DD75-45B7-AEBD-83F4DF6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518-DB0E-4ABA-98A5-2A0F0AD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34-E398-4434-B36A-380EAB5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A63-ED94-4B4C-AEB6-AECD7713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are in the neritic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form from dead coral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build up over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ral_animal" descr=""/>
          <p:cNvPicPr/>
          <p:nvPr/>
        </p:nvPicPr>
        <p:blipFill>
          <a:blip r:embed="rId2"/>
          <a:stretch/>
        </p:blipFill>
        <p:spPr>
          <a:xfrm>
            <a:off x="4648320" y="266220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h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animals with br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ve a tail to help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 plankton and small  crusta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ahorse" descr=""/>
          <p:cNvPicPr/>
          <p:nvPr/>
        </p:nvPicPr>
        <p:blipFill>
          <a:blip r:embed="rId2"/>
          <a:stretch/>
        </p:blipFill>
        <p:spPr>
          <a:xfrm>
            <a:off x="4648320" y="2724120"/>
            <a:ext cx="3809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sea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male carries the bab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often die of exhau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one fli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ahorse-1" descr=""/>
          <p:cNvPicPr/>
          <p:nvPr/>
        </p:nvPicPr>
        <p:blipFill>
          <a:blip r:embed="rId2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Organis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ightly colored fish like clownf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ve animals like the octop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dators lurk like sh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hark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clownfish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2438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 on Re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beautiful  tourists at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n’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efs create protection from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_coral_reefs" descr=""/>
          <p:cNvPicPr/>
          <p:nvPr/>
        </p:nvPicPr>
        <p:blipFill>
          <a:blip r:embed="rId2"/>
          <a:stretch/>
        </p:blipFill>
        <p:spPr>
          <a:xfrm>
            <a:off x="4648320" y="2755800"/>
            <a:ext cx="3809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35:27Z</dcterms:created>
  <dc:creator>sdl</dc:creator>
  <dc:description/>
  <dc:language>en-US</dc:language>
  <cp:lastModifiedBy>sdl</cp:lastModifiedBy>
  <dcterms:modified xsi:type="dcterms:W3CDTF">2010-04-29T14:36:07Z</dcterms:modified>
  <cp:revision>3</cp:revision>
  <dc:subject/>
  <dc:title>Coral Reefs</dc:title>
</cp:coreProperties>
</file>