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BA7-68AE-4A87-9648-6D482F88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001-7929-4179-BC2B-B799534D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9E5-A20D-4CFC-B5F9-1E00742F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3D9-813E-468D-85FC-EFF9C821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205-EC78-4218-90B6-AB7FFF8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90E-7B42-42D2-85F7-1618056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F51-3B33-4C7D-A0AD-C01EC65A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5CF-21A2-4E5D-85FE-52EF5F9A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BA5-4E1F-4730-A9B3-38FE48DC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8A0-0780-4684-AE9C-EC642F7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AA7-7377-4545-A8D7-F1038ADB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313-5BFC-45D5-89A3-A532B44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716A-7053-469D-8F43-BDEB44DD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are in the neritic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form from dead coral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build up over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ral_animal" descr=""/>
          <p:cNvPicPr/>
          <p:nvPr/>
        </p:nvPicPr>
        <p:blipFill>
          <a:blip r:embed="rId2"/>
          <a:stretch/>
        </p:blipFill>
        <p:spPr>
          <a:xfrm>
            <a:off x="4648320" y="2662200"/>
            <a:ext cx="3809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h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animals with br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ve a tail to help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 plankton and small  crusta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eahorse" descr=""/>
          <p:cNvPicPr/>
          <p:nvPr/>
        </p:nvPicPr>
        <p:blipFill>
          <a:blip r:embed="rId2"/>
          <a:stretch/>
        </p:blipFill>
        <p:spPr>
          <a:xfrm>
            <a:off x="4648320" y="2724120"/>
            <a:ext cx="3809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sea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male carries the bab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often die of exhau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have one fli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eahorse-1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Organism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ightly colored fish like clownfis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ve animals like the octop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dators lurk like sh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hark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clownfish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2438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beautiful  tourists at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n’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protection from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_coral_reefs" descr=""/>
          <p:cNvPicPr/>
          <p:nvPr/>
        </p:nvPicPr>
        <p:blipFill>
          <a:blip r:embed="rId2"/>
          <a:stretch/>
        </p:blipFill>
        <p:spPr>
          <a:xfrm>
            <a:off x="4648320" y="2755800"/>
            <a:ext cx="3809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35:27Z</dcterms:created>
  <dc:creator>sdl</dc:creator>
  <dc:description/>
  <dc:language>en-US</dc:language>
  <cp:lastModifiedBy>sdl</cp:lastModifiedBy>
  <dcterms:modified xsi:type="dcterms:W3CDTF">2010-04-29T14:36:07Z</dcterms:modified>
  <cp:revision>3</cp:revision>
  <dc:subject/>
  <dc:title>Coral Reefs</dc:title>
</cp:coreProperties>
</file>